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wmf" ContentType="image/x-wmf"/>
  <Override PartName="/ppt/media/image26.wmf" ContentType="image/x-wmf"/>
  <Override PartName="/ppt/media/image28.wmf" ContentType="image/x-wmf"/>
  <Override PartName="/ppt/media/image17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5D97-6B06-4232-877A-4EA517F26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AC26-E8AD-4906-A701-E70235FC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26F3-EDE2-460B-BCAE-558D8953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F1F-6A0C-4525-BFDB-EA6C9EEF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32E-20C8-49C6-9FC9-E1FBBCA3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1A70-300B-44EC-8F12-259A9BBA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B14E-4C22-4300-8AEB-7C29447D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20B3-B10B-45E2-8CDA-5042BBD4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C896-6148-4123-9B91-34BEA120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7BA-0559-4B67-97F6-E527B3ADB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747-E4E8-41B0-AA07-3FF268BF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432C-354A-4D3B-A63B-6E0DD6F0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CD36-6ED7-4EAD-B4C6-2C26B1A9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9FD-225C-4ABD-8F72-F196541D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EC1-BAEB-4335-9EBD-A0EAA134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4C82-2D79-43FF-ADA4-39FC4210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8E5-98A6-4E76-9C33-4EBC8AD3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6F5-F058-4FF6-A7B6-6AA6AADD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7C3A-0E92-4E61-A3E5-6C72059C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165-0939-4A2E-9AE3-6AB9DEF8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44CF-FA3F-4CA0-A946-6E8B07DD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3291-E587-4FB4-8CB2-0CB1E90C9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D583-C8A3-4155-B960-DB5BB8CB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54B-F10B-4A43-914B-F084D63C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772-FC28-4562-B9E1-BBCEFBD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59A-F616-480D-9D52-A1C50733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550-8384-448A-8ADF-EAF0A4AE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960-C1C7-4D3E-BA22-CC810FE9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C89-2B3B-4927-830F-94831713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D10-DE97-4907-AC04-010F192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AD6-8169-4F1F-9F08-CCF35D1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C44-2BF6-4BB4-BDE0-61311D96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7F4-F6F1-4EEB-92EC-E27E0B3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CA9-AD93-4D7C-A5E7-BC9BD3E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22E-5D1F-4717-920A-36E52E4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AF94-10CA-4F03-A950-720EC464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7.xml"/><Relationship Id="rId7" Type="http://schemas.openxmlformats.org/officeDocument/2006/relationships/slide" Target="slide15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42916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ced Techniques For Integrating EncycloMedia Resources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3"/>
          <p:cNvGrpSpPr/>
          <p:nvPr/>
        </p:nvGrpSpPr>
        <p:grpSpPr>
          <a:xfrm>
            <a:off x="1676520" y="1447920"/>
            <a:ext cx="5562000" cy="2944440"/>
            <a:chOff x="1676520" y="1447920"/>
            <a:chExt cx="5562000" cy="2944440"/>
          </a:xfrm>
        </p:grpSpPr>
        <p:cxnSp>
          <p:nvCxnSpPr>
            <p:cNvPr id="84" name="_s1028"/>
            <p:cNvCxnSpPr>
              <a:stCxn id="85" idx="0"/>
              <a:endCxn id="86" idx="3"/>
            </p:cNvCxnSpPr>
            <p:nvPr/>
          </p:nvCxnSpPr>
          <p:spPr>
            <a:xfrm rot="10800000">
              <a:off x="4457880" y="218412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_s1029"/>
            <p:cNvCxnSpPr>
              <a:stCxn id="88" idx="0"/>
              <a:endCxn id="86" idx="2"/>
            </p:cNvCxnSpPr>
            <p:nvPr/>
          </p:nvCxnSpPr>
          <p:spPr>
            <a:xfrm flipV="1">
              <a:off x="4060800" y="218412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_s1030"/>
            <p:cNvCxnSpPr>
              <a:stCxn id="90" idx="0"/>
              <a:endCxn id="86" idx="1"/>
            </p:cNvCxnSpPr>
            <p:nvPr/>
          </p:nvCxnSpPr>
          <p:spPr>
            <a:xfrm flipV="1" rot="16200000">
              <a:off x="4418280" y="222408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_s1031"/>
            <p:cNvCxnSpPr>
              <a:stCxn id="92" idx="0"/>
              <a:endCxn id="86" idx="0"/>
            </p:cNvCxnSpPr>
            <p:nvPr/>
          </p:nvCxnSpPr>
          <p:spPr>
            <a:xfrm flipH="1" flipV="1" rot="5400000">
              <a:off x="3026520" y="222516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" name="_s1032"/>
            <p:cNvSpPr/>
            <p:nvPr/>
          </p:nvSpPr>
          <p:spPr>
            <a:xfrm>
              <a:off x="3265920" y="1447920"/>
              <a:ext cx="238500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92" name="_s1033"/>
            <p:cNvSpPr/>
            <p:nvPr/>
          </p:nvSpPr>
          <p:spPr>
            <a:xfrm>
              <a:off x="1873440" y="3657240"/>
              <a:ext cx="238644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90" name="_s1034"/>
            <p:cNvSpPr/>
            <p:nvPr/>
          </p:nvSpPr>
          <p:spPr>
            <a:xfrm>
              <a:off x="4656960" y="3657240"/>
              <a:ext cx="238644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88" name="_s1035"/>
            <p:cNvSpPr/>
            <p:nvPr/>
          </p:nvSpPr>
          <p:spPr>
            <a:xfrm>
              <a:off x="1676520" y="2553120"/>
              <a:ext cx="238464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85" name="_s1036"/>
            <p:cNvSpPr/>
            <p:nvPr/>
          </p:nvSpPr>
          <p:spPr>
            <a:xfrm>
              <a:off x="4855320" y="2553120"/>
              <a:ext cx="23832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93" name="Line 29"/>
            <p:cNvSpPr/>
            <p:nvPr/>
          </p:nvSpPr>
          <p:spPr>
            <a:xfrm flipV="1">
              <a:off x="5790600" y="439092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Action Button: Custom 12">
            <a:hlinkClick r:id="rId5" action="ppaction://hlinksldjump"/>
          </p:cNvPr>
          <p:cNvSpPr/>
          <p:nvPr/>
        </p:nvSpPr>
        <p:spPr>
          <a:xfrm>
            <a:off x="1752480" y="2590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Action Button: Custom 13">
            <a:hlinkClick r:id="rId6" action="ppaction://hlinksldjump"/>
          </p:cNvPr>
          <p:cNvSpPr/>
          <p:nvPr/>
        </p:nvSpPr>
        <p:spPr>
          <a:xfrm>
            <a:off x="480060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8120" y="5257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askerville Old Face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1" name="Picture 5" descr="C:\Documents and Settings\lmoore\Local Settings\Temporary Internet Files\Content.IE5\KJNM90WP\MPj04224830000[1].jpg"/>
          <p:cNvPicPr/>
          <p:nvPr/>
        </p:nvPicPr>
        <p:blipFill>
          <a:blip r:embed="rId1"/>
          <a:stretch/>
        </p:blipFill>
        <p:spPr>
          <a:xfrm>
            <a:off x="2057400" y="1371600"/>
            <a:ext cx="5143680" cy="34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0" y="314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mples of Embedding and HyperLink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58672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609480" y="4819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bedded)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5" name="methane powered dairy .asx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85136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assion flower.jpg"/>
          <p:cNvPicPr/>
          <p:nvPr/>
        </p:nvPicPr>
        <p:blipFill>
          <a:blip r:embed="rId2"/>
          <a:stretch/>
        </p:blipFill>
        <p:spPr>
          <a:xfrm>
            <a:off x="5257800" y="16002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a video segment to a designated folder that also contains your Powerpoint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an be a text box, image, clip art,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” drop-down menu, sel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OK” when fin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9" name="Picture 15" descr="block_exterior.jpg"/>
          <p:cNvPicPr/>
          <p:nvPr/>
        </p:nvPicPr>
        <p:blipFill>
          <a:blip r:embed="rId1"/>
          <a:stretch/>
        </p:blipFill>
        <p:spPr>
          <a:xfrm>
            <a:off x="7010280" y="1752480"/>
            <a:ext cx="192744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>
            <a:hlinkClick r:id="rId2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5562720" y="3048120"/>
            <a:ext cx="838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2007 PowerPoin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838080"/>
            <a:ext cx="86104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oolbar go to “Insert” and sel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Using the “handles” on the embedded movie screen you can move and resize your cl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AutoShape 5">
            <a:hlinkClick r:id="rId1" action="ppaction://hlinksldjump"/>
          </p:cNvPr>
          <p:cNvSpPr/>
          <p:nvPr/>
        </p:nvSpPr>
        <p:spPr>
          <a:xfrm>
            <a:off x="838188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477120" y="2181240"/>
            <a:ext cx="106668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EncycloMedia With Inspiratio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AutoShape 14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AutoShape 15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AutoShape 16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4"/>
          <a:stretch/>
        </p:blipFill>
        <p:spPr>
          <a:xfrm>
            <a:off x="228600" y="838080"/>
            <a:ext cx="871056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EncycloMedia With Photo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1" name="Picture 22" descr=""/>
          <p:cNvPicPr/>
          <p:nvPr/>
        </p:nvPicPr>
        <p:blipFill>
          <a:blip r:embed="rId4"/>
          <a:stretch/>
        </p:blipFill>
        <p:spPr>
          <a:xfrm>
            <a:off x="838080" y="685800"/>
            <a:ext cx="7331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38080" y="5221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 are two short movies created using “MovieMaker” which incorporate Encyclomedia Clips, images, and sound effect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Picture 7" descr="6152"/>
          <p:cNvPicPr/>
          <p:nvPr/>
        </p:nvPicPr>
        <p:blipFill>
          <a:blip r:embed="rId1"/>
          <a:stretch/>
        </p:blipFill>
        <p:spPr>
          <a:xfrm>
            <a:off x="838080" y="1752480"/>
            <a:ext cx="3581640" cy="318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780000" cy="3200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c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MovieMaker produc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gs (this are for elementary gr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76320" y="1801800"/>
            <a:ext cx="88390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d Equipment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DV or hard drive digital video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 that supports a digital video connectio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XP with Movie Maker version 2.1 or high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Link port (also known as FireWire or IEEE 1394) on your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accessories for computer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disk driv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VD burner with writeable DVD medi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phon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57200" y="464832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WikiSpaces Address: http://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380880" y="4495680"/>
            <a:ext cx="6019920" cy="1067040"/>
          </a:xfrm>
          <a:custGeom>
            <a:avLst/>
            <a:gdLst>
              <a:gd name="textAreaLeft" fmla="*/ 69120 w 6019920"/>
              <a:gd name="textAreaRight" fmla="*/ 5950800 w 6019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1827" h="21600">
                <a:moveTo>
                  <a:pt x="0" y="0"/>
                </a:moveTo>
                <a:lnTo>
                  <a:pt x="121827" y="0"/>
                </a:lnTo>
                <a:lnTo>
                  <a:pt x="121827" y="21600"/>
                </a:lnTo>
                <a:lnTo>
                  <a:pt x="0" y="21600"/>
                </a:lnTo>
                <a:close/>
              </a:path>
              <a:path fill="lightenLess" w="121827" h="21600">
                <a:moveTo>
                  <a:pt x="0" y="0"/>
                </a:moveTo>
                <a:lnTo>
                  <a:pt x="121827" y="0"/>
                </a:lnTo>
                <a:lnTo>
                  <a:pt x="120427" y="1400"/>
                </a:lnTo>
                <a:lnTo>
                  <a:pt x="1400" y="1400"/>
                </a:lnTo>
                <a:close/>
              </a:path>
              <a:path fill="darken" w="121827" h="21600">
                <a:moveTo>
                  <a:pt x="121827" y="0"/>
                </a:moveTo>
                <a:lnTo>
                  <a:pt x="121827" y="21600"/>
                </a:lnTo>
                <a:lnTo>
                  <a:pt x="120427" y="20200"/>
                </a:lnTo>
                <a:lnTo>
                  <a:pt x="120427" y="1400"/>
                </a:lnTo>
                <a:close/>
              </a:path>
              <a:path fill="darkenLess" w="121827" h="21600">
                <a:moveTo>
                  <a:pt x="12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427" y="20200"/>
                </a:lnTo>
                <a:close/>
              </a:path>
              <a:path fill="lighten" w="12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971800" y="2743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aking video from your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video file from EncycloMedia or other sourc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till photo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ound fi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6320" y="1676520"/>
            <a:ext cx="2819160" cy="5137200"/>
          </a:xfrm>
          <a:prstGeom prst="rect">
            <a:avLst/>
          </a:prstGeom>
          <a:ln w="0">
            <a:noFill/>
          </a:ln>
        </p:spPr>
      </p:pic>
      <p:cxnSp>
        <p:nvCxnSpPr>
          <p:cNvPr id="193" name="Straight Arrow Connector 12"/>
          <p:cNvCxnSpPr/>
          <p:nvPr/>
        </p:nvCxnSpPr>
        <p:spPr>
          <a:xfrm>
            <a:off x="1980720" y="3048120"/>
            <a:ext cx="839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15"/>
          <p:cNvCxnSpPr/>
          <p:nvPr/>
        </p:nvCxnSpPr>
        <p:spPr>
          <a:xfrm>
            <a:off x="1371600" y="3200400"/>
            <a:ext cx="1372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Straight Arrow Connector 17"/>
          <p:cNvCxnSpPr/>
          <p:nvPr/>
        </p:nvCxnSpPr>
        <p:spPr>
          <a:xfrm>
            <a:off x="1295280" y="3427560"/>
            <a:ext cx="14486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6" name="Straight Arrow Connector 19"/>
          <p:cNvCxnSpPr/>
          <p:nvPr/>
        </p:nvCxnSpPr>
        <p:spPr>
          <a:xfrm>
            <a:off x="1599840" y="419112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7" name="TextBox 20"/>
          <p:cNvSpPr/>
          <p:nvPr/>
        </p:nvSpPr>
        <p:spPr>
          <a:xfrm>
            <a:off x="2971800" y="399240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lections do not store resources just “point” to them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s change the look of the video, ex. film grain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s are digital effects that “connect” segments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s and credits create print graphics at beginning and end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ally creates a movie based on the selected clips or collection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cxnSp>
        <p:nvCxnSpPr>
          <p:cNvPr id="198" name="Straight Arrow Connector 21"/>
          <p:cNvCxnSpPr/>
          <p:nvPr/>
        </p:nvCxnSpPr>
        <p:spPr>
          <a:xfrm>
            <a:off x="1828800" y="358092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9" name="Straight Arrow Connector 23"/>
          <p:cNvCxnSpPr/>
          <p:nvPr/>
        </p:nvCxnSpPr>
        <p:spPr>
          <a:xfrm>
            <a:off x="1599840" y="434340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0" name="Straight Arrow Connector 24"/>
          <p:cNvCxnSpPr/>
          <p:nvPr/>
        </p:nvCxnSpPr>
        <p:spPr>
          <a:xfrm>
            <a:off x="1676160" y="4572000"/>
            <a:ext cx="9910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1" name="Straight Arrow Connector 26"/>
          <p:cNvCxnSpPr/>
          <p:nvPr/>
        </p:nvCxnSpPr>
        <p:spPr>
          <a:xfrm>
            <a:off x="1676160" y="47239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Straight Arrow Connector 27"/>
          <p:cNvCxnSpPr/>
          <p:nvPr/>
        </p:nvCxnSpPr>
        <p:spPr>
          <a:xfrm>
            <a:off x="1676160" y="49525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05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06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08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09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11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12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15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16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3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GabCast Feedback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nd Comment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your cell phones and dial the number liste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1-888-887-3127-Toll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mpted enter Channel Number: 21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enter password: 19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please leave your comments and feedback on the sessions today. Once you are finished, press 2 to publish your comment for us. Than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lmoore\Local Settings\Temporary Internet Files\Content.IE5\9ATK35MR\MPj04309340000[1].jpg"/>
          <p:cNvPicPr/>
          <p:nvPr/>
        </p:nvPicPr>
        <p:blipFill>
          <a:blip r:embed="rId1"/>
          <a:stretch/>
        </p:blipFill>
        <p:spPr>
          <a:xfrm>
            <a:off x="6858000" y="228600"/>
            <a:ext cx="1982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228600" y="2743200"/>
            <a:ext cx="88390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000 videos- 50,000 video segments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ing DE Streaming PD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04920" y="990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80880" y="1752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80880" y="2514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19" descr="C:\Documents and Settings\lmoore\Local Settings\Temporary Internet Files\Content.IE5\2MW80HCS\MPj04393500000[1].jpg"/>
          <p:cNvPicPr/>
          <p:nvPr/>
        </p:nvPicPr>
        <p:blipFill>
          <a:blip r:embed="rId1"/>
          <a:stretch/>
        </p:blipFill>
        <p:spPr>
          <a:xfrm>
            <a:off x="7043760" y="4572000"/>
            <a:ext cx="20113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380880" y="3276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lmooreketresources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4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3049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f I get this Page when logging in?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3049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n click on Discovery Education Streamin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9-01-15T04:23:28Z</dcterms:modified>
  <cp:revision>203</cp:revision>
  <dc:subject/>
  <dc:title>Slide 1</dc:title>
</cp:coreProperties>
</file>